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100C-D8C5-4D7B-A800-954439C66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FB29-334F-44DF-8FCB-0CFC1EF7C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6DF5-B3DD-494E-8F10-9E947338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7C87-344C-4DDA-BA83-F19CC861E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9F36-5733-4D6C-B6E0-532CA835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F0D7-8242-4902-8DFC-A4CE34FC3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E27E-A4B0-4CAC-9ABA-58BDE1240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91CB-E5DB-487D-A889-F26A8796F3B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62CB-85A3-43D0-AB96-FD548DEEA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01D0-7AB0-43DD-ACBE-DD5F94063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81D9-1074-46AA-A352-EB3BA21C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B07E-D874-473B-B0FE-A035E683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33DA-FFB9-424C-A460-5EF7E3EB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80FE-59D2-4E53-AC23-F7C5084D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7894-EC11-4C6D-A847-E9FAA85F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B6AE-66C1-41F5-AC2D-44270D3F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88E6-DDD2-4EEE-B262-3C0BD1AED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EEF5-863E-4550-A4FC-CC8E36092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810B-761A-479F-AE60-68FD9DF8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group followed by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47B7-A690-4A23-A28D-3A769459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A715-B75E-4490-94D3-033A5BB9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3B71-6E85-44ED-B4C1-E699EB3C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able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9FA8-0E77-492D-89DC-1D27A3CBF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solutions:   -9,-8,-7,….  Or  -38, -36,….  OR -67, -64, -61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they got to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5DB4-8E0E-4AF0-A9F1-40C8AA11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ables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A551-B9F7-4932-9BA5-17BBA710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E07F-58EE-49B4-8532-31F3113FA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274A-C60C-4366-8B33-C94AB2CD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0352-FC7F-4982-81F3-80ACDABF2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2FC-532F-4DB1-92E9-B7EB1E73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7C9A-707C-45D2-9E1C-C1DAD9517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6628-F831-457D-9E55-DDB7A6B2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6DE3-CB08-4743-A210-4E9DE5D53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5198-6138-47C7-A4C5-977EA431A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0800-50BE-4D0A-8C68-FB7F8433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: positive if -9, -8,-7,….  (it would be 10)  or negative e.g. -270, -260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9078-0209-4E58-9FA2-953F67D9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4B72-CB99-42AC-A6D6-A4BDBFFD0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8E4D-A838-4322-A4E3-2A3579C05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4322-2958-4021-BA1B-9F5CF04E6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3A73-E8E3-4D10-AAF1-9BFC0A082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081C-A30B-4B06-9DE9-667F3210B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338C-D50E-46A7-B435-220780D88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FC04-C3FC-4270-8D4F-3929FB067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4AB-E669-42C0-82AC-EDF1E8313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1F77-4FDA-4A22-8573-7A5E3B003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1C12-6F72-479A-A690-BC7AF529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BC0A-1960-484B-892D-78E77CFAD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loser to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C6F6-8128-4431-BB72-625D77723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loser to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C921-DB16-469C-81B8-F526253C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81FF-F7AB-4F41-A31D-A58A7CA69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8257-27E5-4050-B390-FF6B56A0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2A47-C98E-4DA2-B289-51BBD3A8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CDC7-A40C-466E-AF0A-1A5E8269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CCF7-F78D-4BBC-B5E4-FC07A6F5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that there are many sequences with a common term; maybe what a linear growing pattern is; maybe that if the sequence grows fast then values that are near in position  are far apart but if the sequence goes slow, it’s not true; maybe it’s that sequences can grow fast or slow- discuss at tables and then in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3306-073B-4941-A8AC-908107610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deal with first big idea regardless but second one only if I ask that other question- large group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1146-1E3D-4820-84C4-4B1853C0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torical only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6367-B6F6-4B73-A911-3EBEFB585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BBA-EE74-45EE-839D-1898DBB8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8A7-998D-45E6-BA9A-3AFD7D57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199-85DD-4F68-93CB-06D79EC8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90B-FB0C-402B-A589-0C8EB5D2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0DD-1516-438D-9342-54E601D2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5B9-418C-40A5-8116-5E10AA65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316-5F35-4EAE-94F7-2D185962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865-8A91-4843-8B69-41B88E1C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F6D-64E5-4E1D-A2FA-6102BBD5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B8D-D206-4173-AD55-F4FC366D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D2B-04A6-4510-9986-3CE19C9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F4E-614E-4EAE-8248-7F0089C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737D-5B6B-4C35-842A-126DEE3F65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6D7D-49B8-4B30-A38B-7C94C3CC96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connect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4159-1C2C-4031-B78E-B38E48CE3A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219320" y="1905120"/>
            <a:ext cx="741672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x0010_NOT a topic name nor an overall expec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FEB7-BCCB-4E66-A46B-748E423FEA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121932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provides a lens in which to embed new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8242-A81A-4695-A050-F190660361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1905120"/>
            <a:ext cx="741672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1F42-3C40-4B3B-B34D-5C0B837E4B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19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19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197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19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20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3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27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286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895480" y="1905120"/>
            <a:ext cx="5740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 in 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- communication, reasoning,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52B9-97C1-4572-BFCC-847500ADDF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609480" y="4343400"/>
            <a:ext cx="2144880" cy="21477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0"/>
          <p:cNvSpPr txBox="1"/>
          <p:nvPr/>
        </p:nvSpPr>
        <p:spPr>
          <a:xfrm rot="19346400">
            <a:off x="1225440" y="504000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WordArt 8" descr=""/>
          <p:cNvPicPr/>
          <p:nvPr/>
        </p:nvPicPr>
        <p:blipFill>
          <a:blip r:embed="rId2"/>
          <a:stretch/>
        </p:blipFill>
        <p:spPr>
          <a:xfrm>
            <a:off x="755640" y="5479920"/>
            <a:ext cx="1085760" cy="433440"/>
          </a:xfrm>
          <a:prstGeom prst="rect">
            <a:avLst/>
          </a:prstGeom>
          <a:ln w="0">
            <a:noFill/>
          </a:ln>
        </p:spPr>
      </p:pic>
      <p:sp>
        <p:nvSpPr>
          <p:cNvPr id="105" name="WordArt 6"/>
          <p:cNvSpPr txBox="1"/>
          <p:nvPr/>
        </p:nvSpPr>
        <p:spPr>
          <a:xfrm rot="20286600">
            <a:off x="1002960" y="448596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905120"/>
            <a:ext cx="86868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, verbal,concrete/pictorial) highlight different characteristic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haviours, and can serve different purpo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FA08-6BD5-4D04-ABD8-6A7D0EC288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457200" y="1905120"/>
            <a:ext cx="327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DC83-E4F4-41C2-9640-5AF2D28C1E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8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219320" y="1905120"/>
            <a:ext cx="7416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3636-900D-4EB7-9D64-005C9D00D7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457200" y="1905120"/>
            <a:ext cx="327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E8FE-0AB0-4CB1-847F-531C88B176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219320" y="19051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C4B2-3A94-4C9A-89E5-9D4431107D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57200" y="1905120"/>
            <a:ext cx="327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1FF9-7EA7-4811-B287-94A3F0C20E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143000" y="26668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80E5-995C-40E7-8194-C77EF94AAF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143000" y="26668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E7FE-3BCF-4C4C-AFAB-AD30A18211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143000" y="266688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A426-D200-431B-A141-B072A3D149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7ED7-C90D-4624-A46D-970A94D0F9F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general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D19F-2F2D-47B1-9874-E8096A7BE8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describing or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6E54-D667-4D24-9F6B-D39F089439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2 broaden a student’s notion of what a “class” of relationships might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B9E3-528C-4AA2-8981-DB844FF8BD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7CEA-DC34-42A2-AE33-49AF97892F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143000" y="2666880"/>
            <a:ext cx="7416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3 broaden a student’s sense of what different representations mean and/or what their purpose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3543-9DB5-478B-84E6-BA0E6C4661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43000" y="266688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in the past (with or without realizing it) to make students see that from limited information you can get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2E09-1B5B-4A43-ACE6-C771268AB5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1828800"/>
            <a:ext cx="741708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DF0F-D327-4C3E-BD26-9BFC08ACFB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66680" y="1828800"/>
            <a:ext cx="741708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39B6-5AE3-4D49-8684-8B2AEE7420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43000" y="251460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helps for students to make the big ideas explicit so that is becomes easier to make the connections to prior knowled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9A97-0234-4547-B607-F619EF4626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0DB0-8EB2-42AD-968A-E8AE917D3C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066680" y="182880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88D3-7BB3-4075-89E0-19735C26EA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B6A6-059E-4068-816F-2D422DBB17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1828800"/>
            <a:ext cx="741708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949D-E615-414E-A8D2-AE410AAA04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A234-FF4B-4B3D-B9A4-FE9ACF9B022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42920" y="20145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369-8B14-4A6D-B4B5-1511F955BE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D85E-31E0-47C6-B736-2473E6E1DC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066680" y="2590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41D-55C6-4733-A237-DEDA35F688E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0.5 in disgu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73B0-929F-4720-B555-43E4EAAD93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066680" y="2590920"/>
            <a:ext cx="741708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8908-B11F-4BF2-919D-FA230D5E79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066680" y="25909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1CE1-F013-4891-8455-CCC4AFFB68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66680" y="1981080"/>
            <a:ext cx="741708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3B2D-1727-4359-B406-FEBAB9E884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066680" y="1981080"/>
            <a:ext cx="74170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students to see that it is useful to write the table of values where the independent variable increases in a consistent way, but that’s not required for a table of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1491-0162-40D8-8B66-CCD1E9F00F9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lated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43000" y="243828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AAD2-DDD7-4862-AED7-6D14AC552F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8EB6-93AD-4ECB-B4C7-74668373D70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066680" y="19810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19A1-3390-446D-878B-D83C1CC96D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066680" y="289548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EE6A-B00D-428D-8045-1DE2798537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066680" y="1981080"/>
            <a:ext cx="741708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a relationship described verbally gives other insights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33CC-DC49-42D5-BE77-6444D8EB74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at consolidating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066680" y="1981080"/>
            <a:ext cx="7417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have be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id the graph make easy to see that wasn’t so obvious befo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7605-9CC7-4AA4-B5A2-1E1A9F93464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 today’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0339-EAF1-470C-A114-B59BA97868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66680" y="198108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expectation and a big idea?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2937-A014-4D8C-B927-A941EFC145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epare for tomorr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think about what you consider important issues in developing lesson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402C-F36E-4A13-A4FB-867C74ADD5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C98A-ECA3-4E47-BCED-BB7AAB0FCE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B946-ADCA-494A-9E29-2748BC0400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066680" y="198108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the important math underlying idea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34F7-6903-4548-A727-A8C5BADBB37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this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84C8-A6D8-4E80-9AA5-29A977363B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14400" y="99072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ight lead to students being able to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66680" y="289548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C3BF-9864-46C2-85A9-7ADEA569B0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10D4-F76D-421C-88C6-DD68520B50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7:04:38Z</dcterms:created>
  <dc:creator>PSteele</dc:creator>
  <dc:description/>
  <dc:language>en-US</dc:language>
  <cp:lastModifiedBy>Marian Small</cp:lastModifiedBy>
  <dcterms:modified xsi:type="dcterms:W3CDTF">2009-08-17T20:56:26Z</dcterms:modified>
  <cp:revision>171</cp:revision>
  <dc:subject/>
  <dc:title>Slide 1</dc:title>
</cp:coreProperties>
</file>